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262-C5FA-47FC-9448-A658DA14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5B1-7129-4DC2-9C70-AE417338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3A1F-3A10-4830-9311-7BD1B456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A44-56F1-44E9-9BB0-6851FC9E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934-4FA4-424B-B82F-0812ADF8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4C4-414B-46C9-B801-56F46C87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6E9-EE81-4662-85E5-AE1C23FD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F18-742E-468E-8B94-90950718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39D8-DA35-4910-81A9-98947EB7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E7B-6B61-48B1-ADCE-0C98B693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36B-10F7-42B0-8609-F6E02D15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8C85-02F6-4293-B87B-3FC7B394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A8DC-42C2-4AA8-BC35-CD2A947FE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6:27:37Z</dcterms:created>
  <dc:creator>Grupo Editorial</dc:creator>
  <dc:description/>
  <dc:language>en-US</dc:language>
  <cp:lastModifiedBy>Grupo Editorial</cp:lastModifiedBy>
  <dcterms:modified xsi:type="dcterms:W3CDTF">2001-11-20T16:30:38Z</dcterms:modified>
  <cp:revision>1</cp:revision>
  <dc:subject/>
  <dc:title>Sin título de diapositiva</dc:title>
</cp:coreProperties>
</file>